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7DE-98C3-473A-B275-9C921B45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76A-00A8-423B-AB60-F4464C9C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E03-74FB-4B2C-8441-3B60312F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6DE-3DA8-42E0-9389-ACFBC0D4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2DD3-54E0-4893-99DF-92D2FCDE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D8ED-FD39-4ADA-BE69-DEFE60C6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E331-BA84-474E-B681-C3EDB885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19A0-D086-46B1-9CE0-73D5714D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A5EA-7B9D-41BE-9698-AEABA413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9D59-5EF2-469A-AB8A-AACEE39E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54EA-E4EA-42C2-8796-056053B4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1B2-A02A-4C17-9A46-0FB9B465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B397-7A03-475D-AFFD-35777CE7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44D2D-BC08-4228-91CA-5E9A50CA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0A0E-6EB9-43C7-9881-E9B01194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8B58-CB86-447C-BC75-238B429F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06FD-56B3-449A-8E49-576569A6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2A9-6F2C-4A9C-BAE7-D572F8C2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B05D-99B5-4D34-B322-EA1EBEC4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CAD-B212-4A43-A49F-A4A4F9CC6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B617-FC8F-467E-8E55-70B9D516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4A6E-63F9-4D62-995C-6663C2DD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5DF2-5239-4889-A54E-9773ED41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B0B-1345-48C6-9799-E1F90F5C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C628-D752-43CA-BA21-2BA293EAB0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864E-F907-48E1-A2FB-53823CDDD0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cc66"/>
                </a:solidFill>
                <a:latin typeface="Gill Sans MT"/>
              </a:rPr>
              <a:t>Aztec Society:</a:t>
            </a:r>
            <a:r>
              <a:rPr b="1" lang="en-US" sz="4800" spc="-1" strike="noStrike">
                <a:solidFill>
                  <a:srgbClr val="cccc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 MT"/>
              </a:rPr>
              <a:t>The People of the S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1565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The physical geography of Mexico is diverse (jungles, sand dunes, beaches, valleys, mountains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850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The Aztecs believed the world existed in two landscapes: the </a:t>
            </a:r>
            <a:r>
              <a:rPr b="1" lang="en-US" sz="3400" spc="-1" strike="noStrike">
                <a:solidFill>
                  <a:srgbClr val="cc9900"/>
                </a:solidFill>
                <a:latin typeface="Gill Sans MT"/>
              </a:rPr>
              <a:t>physical</a:t>
            </a:r>
            <a:r>
              <a:rPr b="0" lang="en-US" sz="3400" spc="-1" strike="noStrike">
                <a:solidFill>
                  <a:srgbClr val="cc9900"/>
                </a:solidFill>
                <a:latin typeface="Gill Sans MT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and the </a:t>
            </a:r>
            <a:r>
              <a:rPr b="1" lang="en-US" sz="3400" spc="-1" strike="noStrike">
                <a:solidFill>
                  <a:srgbClr val="cc9900"/>
                </a:solidFill>
                <a:latin typeface="Gill Sans MT"/>
              </a:rPr>
              <a:t>sacred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3" marL="1255320" indent="-286200">
              <a:lnSpc>
                <a:spcPct val="100000"/>
              </a:lnSpc>
              <a:spcBef>
                <a:spcPts val="700"/>
              </a:spcBef>
              <a:buClr>
                <a:srgbClr val="cccc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mountains were </a:t>
            </a:r>
            <a:r>
              <a:rPr b="0" lang="en-US" sz="2800" spc="-1" strike="noStrike">
                <a:solidFill>
                  <a:srgbClr val="ff6600"/>
                </a:solidFill>
                <a:latin typeface="Gill Sans MT"/>
              </a:rPr>
              <a:t>sacred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, so Aztec temples were built in the shape of mount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6840" y="-766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cccc66"/>
                </a:solidFill>
                <a:uFillTx/>
                <a:latin typeface="Gill Sans MT"/>
              </a:rPr>
              <a:t>PHYSICAL GEOGRAPHY</a:t>
            </a: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ccc66"/>
                </a:solidFill>
                <a:uFillTx/>
                <a:latin typeface="Gill Sans MT"/>
              </a:rPr>
              <a:t>How did they find Tenochtitlan?</a:t>
            </a:r>
            <a:endParaRPr b="1" lang="en-US" sz="38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960" y="1523880"/>
            <a:ext cx="8762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The god Huitzilopochtli lead the Aztecs to </a:t>
            </a:r>
            <a:r>
              <a:rPr b="1" lang="en-US" sz="3000" spc="-1" strike="noStrike">
                <a:solidFill>
                  <a:srgbClr val="ff6600"/>
                </a:solidFill>
                <a:latin typeface="Gill Sans MT"/>
              </a:rPr>
              <a:t>Tenochtitlan</a:t>
            </a:r>
            <a:r>
              <a:rPr b="1" lang="en-US" sz="30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(the Aztec capital city), so they had to live there, even though it was on an island surrounded by wat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he Earth was believed to be a </a:t>
            </a:r>
            <a:r>
              <a:rPr b="0" lang="en-US" sz="2800" spc="-1" strike="noStrike">
                <a:solidFill>
                  <a:srgbClr val="cc9900"/>
                </a:solidFill>
                <a:latin typeface="Gill Sans MT"/>
              </a:rPr>
              <a:t>round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, </a:t>
            </a:r>
            <a:r>
              <a:rPr b="0" lang="en-US" sz="2800" spc="-1" strike="noStrike">
                <a:solidFill>
                  <a:srgbClr val="cc9900"/>
                </a:solidFill>
                <a:latin typeface="Gill Sans MT"/>
              </a:rPr>
              <a:t>flat disk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 divided into 4 sections, with Tenochtitlan in the </a:t>
            </a:r>
            <a:r>
              <a:rPr b="0" lang="en-US" sz="2800" spc="-1" strike="noStrike">
                <a:solidFill>
                  <a:srgbClr val="ff6600"/>
                </a:solidFill>
                <a:latin typeface="Gill Sans MT"/>
              </a:rPr>
              <a:t>middle</a:t>
            </a: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cc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On their journey to Tenochtitlan, the Aztecs came into </a:t>
            </a:r>
            <a:r>
              <a:rPr b="0" lang="en-US" sz="3000" spc="-1" strike="noStrike">
                <a:solidFill>
                  <a:srgbClr val="ff6600"/>
                </a:solidFill>
                <a:latin typeface="Gill Sans MT"/>
              </a:rPr>
              <a:t>conflict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with different societies – this caused them to become a </a:t>
            </a: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disciplined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, </a:t>
            </a: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independent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, and </a:t>
            </a: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resourceful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society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" y="101520"/>
            <a:ext cx="8683560" cy="660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280" y="816120"/>
            <a:ext cx="876312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cccc66"/>
                </a:solidFill>
                <a:uFillTx/>
                <a:latin typeface="Gill Sans MT"/>
              </a:rPr>
              <a:t>The Aztec Empire</a:t>
            </a:r>
            <a:endParaRPr b="1" lang="en-US" sz="47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The Aztecs </a:t>
            </a:r>
            <a:r>
              <a:rPr b="1" lang="en-US" sz="3400" spc="-1" strike="noStrike">
                <a:solidFill>
                  <a:srgbClr val="ffffff"/>
                </a:solidFill>
                <a:latin typeface="Gill Sans MT"/>
              </a:rPr>
              <a:t>expanded </a:t>
            </a: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their empire through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50520" indent="-326880">
              <a:lnSpc>
                <a:spcPct val="10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trade allia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0520" indent="-326880">
              <a:lnSpc>
                <a:spcPct val="10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defensive allianc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0520" indent="-326880">
              <a:lnSpc>
                <a:spcPct val="10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war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(merchants spied for Aztec army; compulsory military service for all men; warrior society inspired commitment to protect the Aztec peopl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50520" indent="-326880">
              <a:lnSpc>
                <a:spcPct val="10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tribute</a:t>
            </a:r>
            <a:r>
              <a:rPr b="0" lang="en-US" sz="3000" spc="-1" strike="noStrike">
                <a:solidFill>
                  <a:srgbClr val="cc9900"/>
                </a:solidFill>
                <a:latin typeface="Gill Sans MT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(valuable gifts/taxes given by conquered peopl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600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cccc66"/>
                </a:solidFill>
                <a:uFillTx/>
                <a:latin typeface="Gill Sans MT"/>
              </a:rPr>
              <a:t>Aztec Citizenship</a:t>
            </a:r>
            <a:endParaRPr b="1" lang="en-US" sz="4700" spc="-1" strike="noStrike">
              <a:solidFill>
                <a:srgbClr val="cc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An </a:t>
            </a:r>
            <a:r>
              <a:rPr b="1" lang="en-US" sz="3400" spc="-1" strike="noStrike">
                <a:solidFill>
                  <a:srgbClr val="ffffff"/>
                </a:solidFill>
                <a:latin typeface="Gill Sans MT"/>
              </a:rPr>
              <a:t>ideal </a:t>
            </a:r>
            <a:r>
              <a:rPr b="0" lang="en-US" sz="3400" spc="-1" strike="noStrike">
                <a:solidFill>
                  <a:srgbClr val="ffffff"/>
                </a:solidFill>
                <a:latin typeface="Gill Sans MT"/>
              </a:rPr>
              <a:t>Aztec citizen could be described as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Courageous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(deal with hardships without complaining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Self-sacrificing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(group was more important than individua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Modest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(do not boast or do anything that makes you stand out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Clean Lifestyle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(stay healthy; don’t over-indulge in food/drink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9900"/>
                </a:solidFill>
                <a:latin typeface="Gill Sans MT"/>
              </a:rPr>
              <a:t>Obedient</a:t>
            </a:r>
            <a:r>
              <a:rPr b="0" lang="en-US" sz="3000" spc="-1" strike="noStrike">
                <a:solidFill>
                  <a:srgbClr val="ffffff"/>
                </a:solidFill>
                <a:latin typeface="Gill Sans MT"/>
              </a:rPr>
              <a:t> (obey superiors to maintain social ord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4:32:47Z</dcterms:created>
  <dc:creator>Administrator</dc:creator>
  <dc:description/>
  <dc:language>en-US</dc:language>
  <cp:lastModifiedBy>Administrator</cp:lastModifiedBy>
  <dcterms:modified xsi:type="dcterms:W3CDTF">2009-02-26T14:56:35Z</dcterms:modified>
  <cp:revision>9</cp:revision>
  <dc:subject/>
  <dc:title>Aztec Society: </dc:title>
</cp:coreProperties>
</file>